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840-040B-4C55-BC20-984E017D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D9B-0ED6-4E3A-849B-F645C3C3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2A7-0225-4F87-A55F-8A629212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7C6-E8C7-4908-9EEE-0AAAC5EB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76113-AE8D-4FF3-9195-F537065D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5D588-6127-407F-9B72-A2A719A0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75DDF-09BC-4FB7-BB43-C3BEB4FF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54C96-9B66-471F-9B17-3C175431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86AC3-9371-4DC9-AE4F-83374B76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E2BAC-8A40-448C-80DA-3A4F2676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33610-138B-4DC9-9267-1EEA5E84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6A8-FEFF-4248-B119-CB2314E4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4151E-1E39-4A6A-9ED2-2F3B11E4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04298-47F2-499F-8FBF-393648E2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9ACD3-5DAC-405F-BED3-9E4299DD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164DA-A76D-46C4-B840-59044D51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6DBE7-5DFA-4B32-9134-EA2BE18F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CFA-5845-4F96-A159-9799AD60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8D32-9514-4605-9361-8CF0B9DF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F61D-F180-4034-B7FD-6D5656F8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C55-87DC-464B-BA33-EC178B11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33EB-9604-4796-8140-D405C310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EF1-929D-4A2E-87C4-5FA6AB35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3E7-B32F-4AF1-907F-8E1B1412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59C5-FBB5-4BD0-8DEB-294603811A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392C-696E-4434-B1E7-62B3A8CF59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0kFaxNkbt2Y&amp;feature=related" TargetMode="External"/><Relationship Id="rId2" Type="http://schemas.openxmlformats.org/officeDocument/2006/relationships/hyperlink" Target="http://www.youtube.com/watch?v=0kFaxNkbt2Y&amp;feature=related" TargetMode="External"/><Relationship Id="rId3" Type="http://schemas.openxmlformats.org/officeDocument/2006/relationships/hyperlink" Target="http://www.youtube.com/watch?v=0kFaxNkbt2Y&amp;feature=related" TargetMode="External"/><Relationship Id="rId4" Type="http://schemas.openxmlformats.org/officeDocument/2006/relationships/hyperlink" Target="http://www.youtube.com/watch?v=D2dYNLwtRkc&amp;feature=related" TargetMode="External"/><Relationship Id="rId5" Type="http://schemas.openxmlformats.org/officeDocument/2006/relationships/hyperlink" Target="http://www.youtube.com/watch?v=D2dYNLwtRkc&amp;feature=related" TargetMode="External"/><Relationship Id="rId6" Type="http://schemas.openxmlformats.org/officeDocument/2006/relationships/hyperlink" Target="http://www.youtube.com/watch?v=D2dYNLwtRkc&amp;feature=related" TargetMode="External"/><Relationship Id="rId7" Type="http://schemas.openxmlformats.org/officeDocument/2006/relationships/hyperlink" Target="http://www.youtube.com/watch?v=9z4N7-yourw&amp;feature=related" TargetMode="External"/><Relationship Id="rId8" Type="http://schemas.openxmlformats.org/officeDocument/2006/relationships/hyperlink" Target="http://www.youtube.com/watch?v=9z4N7-yourw&amp;feature=related" TargetMode="External"/><Relationship Id="rId9" Type="http://schemas.openxmlformats.org/officeDocument/2006/relationships/hyperlink" Target="http://www.youtube.com/watch?v=9z4N7-yourw&amp;feature=related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anadian Seal Hun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Nathan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752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About the Canadian Seal Hunt."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umane Soceity of the United Sta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HSUS, n.d. Web. 16 Feb. 2010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[code]] &lt;http://www.hsus.org/marine_mammals/protect_seals/about_the_canadian_seal_hunt/&gt;. //The Canadian Seal Hunt//. Humane Soceity of the United States, 2007. Web. 23 Feb. 2010. &lt;http://www.canadiansealhunt.com/organizations.html&gt;. "Six Facts of the Canadian Seal Hunt." //Canada International//. Her Majesty the Queen in Right of Canada, n.d. Web. 21 Feb. 2010. &lt;http://www.canadainternational.gc.ca/austria-autriche/ assets/pdfs/Seal_hunt_17jan05-e.pdf&gt;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181480" y="228600"/>
            <a:ext cx="365760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Hu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seal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l hunting Is the personal or commercial hunt of se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tarted with Native Americans hunting for se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a kind of right to manh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 it has evolved into a massive industry with 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uge commerci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343400" y="4479840"/>
            <a:ext cx="39625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y it happ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ur is considered very valuable because of its warmth and its resistance to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 sold to Europe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nadian Sealing industry rakes an annual income of about 16.5 million doll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al meat is sold to the Asian markets and the oil is taken as a fish oil supp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imal Rights Clai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hough Canada is not the only country that participates in the Sealing industry it is the most famous due to the constant animal rights prote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Right Protesters think the hakapik is inhumane and doesn’t always kill the anim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uld resulting in the hunter skinning the seal al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trovers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very part of the seal is Utiliz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the upset for Seal Hunting is that hunters will kill specifically for the fur and will throw away the m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al Warming may threaten lifestyle of the Se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ath statistics of the hunt do not include the seals that have been injured by hunters but got away. Only to die l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Hakapik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ally a clu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er method is to hit the seal directly on the foreh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cess will crush the skull and supposedly kill it insta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Protest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umane Society international is the chief protestor of the Canadian Seal h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mascot is a young white seal known as a white coat… Even though they are illegal to kill at such a young 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I calls for a boycott of all Canadian seafood… Unfortunately the Asian and American markets won’t particip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elebrity Atten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hough Harp Seals are not an endangered species and their population is constantly monitored by the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celebrities varying from Paul McCartney and Paris Hilton have done concerts to speak out against the seal h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fortunately Canadian Seal Hunters don’t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inks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=0kFaxNkbt2Y&amp;feature=related</a:t>
            </a:r>
            <a:br>
              <a:rPr sz="3200"/>
            </a:b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www.youtube.com/watch?v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=D2dYNLwtRkc&amp;feature=related</a:t>
            </a:r>
            <a:br>
              <a:rPr sz="3200"/>
            </a:b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www.youtube.com/watch?v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9"/>
              </a:rPr>
              <a:t>=9z4N7-yourw&amp;feature=rel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8:54:07Z</dcterms:created>
  <dc:creator>SASD</dc:creator>
  <dc:description/>
  <dc:language>en-US</dc:language>
  <cp:lastModifiedBy>SASD</cp:lastModifiedBy>
  <dcterms:modified xsi:type="dcterms:W3CDTF">2010-03-03T14:56:32Z</dcterms:modified>
  <cp:revision>8</cp:revision>
  <dc:subject/>
  <dc:title>Canadian Seal Hunt</dc:title>
</cp:coreProperties>
</file>